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E494-6267-4D84-94CA-A18DA3A4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856A-90F1-40A2-AA70-8385E391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9E7D-E180-49FF-953E-76E6D7E9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0192-EC7B-49E7-8742-71B379FB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F2FC-E1A7-494D-8D16-042634F1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25AA-DA0C-4A54-9DDF-6CAC9502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C11E-4187-4135-8443-7BEFB7AE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CB77-07AE-47B9-B9A2-B5583DF2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DE66-829C-49BD-A242-AC7A09A3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EBAB-1FA4-44AE-AD18-7FCCF397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238C-2E32-472A-A72C-DDC6432E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19B0-DD3C-49BA-B325-44B8DBEE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4CF9-5C04-4B52-A6D1-9FAD622F0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ava.sun.com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ptions Part Tw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arch for a cat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a program doesn’t catch a thrown excep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 the exception upw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 void openFile ( ) throws IOException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le = new BufferedReader (new FileReader (“C:\\myFile.txt”);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/ the caller must catch or pass exception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: ignore ex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 will not force check – may be used when we know number is error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ctive GUI input ess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tch input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Int may throw NumberFormat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IndexOutOfBounds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a[ ] = new int [1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n = 0; n &lt; = 10 ; n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[n] = 0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10 is actually out of bounds array a range 0 ..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the exception class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{ // some code …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 (Exception errorObject) {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le it …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super class exception of run-time exception, IOException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ching individual exceptions specific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{ // some code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 (IOException errorOb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 handle the I/O problem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 (Exception errorObjec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 handle any other problem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requires more general class at end – if not – compiler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ception is an unusu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ions are instances of classes created by ‘new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n exceptional situation is detected and exception ‘throw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– catch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{ block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ing catch ( … ) { block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cked exception is one that must be acknowled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eritance tree (see Figure 16.2) page 307 fol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ions under RunTimeException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fix may be intentionally ign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ther exception class checked, and must be dealt wi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les depend on the class of exception: base princi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untime a ‘util’ method called, which calls other methods which may call still other method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level calls lower methods pattern is unpredictable before run time. (may be called based on an ‘if’ or input data.) methodA calls methodB which calls metho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rror occurs in C, search for catch made locally, if not found – B is searched, then A. If still not found an error message displayed on screen if top-level method does not provide a catch. Program still may not terminate – depends on nature of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rogram with GUI (see chapter 17) program termin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GUI up and running exceptions do not terminate program but can not be reli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wing – an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methods will not need catch-throw 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concern library method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Int throws a NumberFormat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amine the documentation to discover what exceptions may be throw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ows –  in header, throw in body of a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w often the result of an ‘if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method abandoned (search docu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reference manual, development environment or web site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java.su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description – purpose of method, its name, parameter types, relationships, classes of exception it may th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ption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ty of classes provided by library lists, exception n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r may create their own exceptions (not covered in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‘bigTrouble’ out of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serious – NumberFormat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Figure 16.2 shows class hierarchy of exceptions page 3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exceptions under class thro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1981080"/>
            <a:ext cx="29718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3581280"/>
            <a:ext cx="21337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3581280"/>
            <a:ext cx="2057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2209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w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38098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3733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438280" y="2895480"/>
            <a:ext cx="8384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4038120" y="289512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4800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 to 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47242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ed’ you must deal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and checked excep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ingent checks on match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row , try - c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15328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states it can throw – that must be acknowledged by caller. Catch or state it can be th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states it can throw that need not be handled (control passed upward if method that calls it attempts to find c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atch not found exception message dis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case: throw exceptions not stated in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by zero – arithmetic ex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s – ArrayIndexOutOfBounds ex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ching the common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ed – NumberFormatEx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hecked – ArrayIndexOutOfBounds ex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does not exist (wrong name or pa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{ inFile = new BufferedReader (new FileReader ( “ C:\\myFile.txt”));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(FileNotFoundException errorObject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ptionPane.showMessageDialog ( nu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: missing file – try again”) ;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21:54:35Z</dcterms:created>
  <dc:creator> </dc:creator>
  <dc:description/>
  <dc:language>en-US</dc:language>
  <cp:lastModifiedBy> </cp:lastModifiedBy>
  <dcterms:modified xsi:type="dcterms:W3CDTF">2005-05-09T23:53:27Z</dcterms:modified>
  <cp:revision>4</cp:revision>
  <dc:subject/>
  <dc:title>Exceptions Part Two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42147673</vt:r8>
  </property>
  <property fmtid="{D5CDD505-2E9C-101B-9397-08002B2CF9AE}" pid="3" name="_AuthorEmail">
    <vt:lpwstr>rfarkas@ccac.edu</vt:lpwstr>
  </property>
  <property fmtid="{D5CDD505-2E9C-101B-9397-08002B2CF9AE}" pid="4" name="_AuthorEmailDisplayName">
    <vt:lpwstr>Farkas, Roderic R.</vt:lpwstr>
  </property>
  <property fmtid="{D5CDD505-2E9C-101B-9397-08002B2CF9AE}" pid="5" name="_EmailSubject">
    <vt:lpwstr>Bell and Parr Chapter 16</vt:lpwstr>
  </property>
</Properties>
</file>